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FA04-8754-4885-AEE0-071C2BDF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81B-5B32-4FCF-80CB-E85EE2A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0C4-131A-4B8D-B8FF-A3129B40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41F-4DD9-490D-87B0-73C01440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877A-EE36-46B7-950C-D4A2050B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8564-4FA8-40B0-ABC2-AB461C18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6CD9-4851-4A0C-BC6F-C88B6BBD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5A56-D0CC-488B-A070-9105769E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560-22DA-4502-97E0-A5AA416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E906-5E65-4C9C-8E7B-93F68FC8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30BD-72D0-49E1-8606-49987B1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4F8-9428-4C68-B02F-CA41706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8B68-D082-42E3-9EEA-A68E346E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9E8-2799-49CB-9962-F15293C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7EB-2D81-427C-831A-C08E3C59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91ED-2194-4964-8A4D-1373C5DC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CB24-F9C9-4FF3-A6E8-9040EF09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033-E7F9-4CF9-9E07-F0DEBF5A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BF31-81F0-4E76-85D7-BCE60329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8F0-95B2-4400-B23C-066B019E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262-7156-4FD5-9C56-1FBB7DD5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AD3-E560-4A5F-95B1-E30D155D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191-CBE8-4DD5-A881-287F77D9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06A-8569-4D03-B13D-AEB5855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894A-3938-420D-B5AD-F43BD01C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099E-EA8A-43D8-A40D-F6778315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Questioning Skill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59436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orkshop – 20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300c"/>
                </a:solidFill>
                <a:latin typeface="Arial Black"/>
              </a:rPr>
              <a:t>There are no bad answers just bad questions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ive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ag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e student ‘knowled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 correct responses that may vary in depth and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e mental engagement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sight into students’ understanding and/o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students opportunities for learner-controlled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sights to the teacher as to the likely best next steps for promoting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3:02:58Z</dcterms:created>
  <dc:creator>Kim Scott</dc:creator>
  <dc:description/>
  <cp:keywords/>
  <dc:language>en-US</dc:language>
  <cp:lastModifiedBy>Kim Scott</cp:lastModifiedBy>
  <dcterms:modified xsi:type="dcterms:W3CDTF">2008-09-18T02:31:17Z</dcterms:modified>
  <cp:revision>3</cp:revision>
  <dc:subject/>
  <dc:title>Questioning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